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3.png" ContentType="image/png"/>
  <Override PartName="/ppt/media/image11.jpeg" ContentType="image/jpeg"/>
  <Override PartName="/ppt/media/image9.jpeg" ContentType="image/jpeg"/>
  <Override PartName="/ppt/media/image16.png" ContentType="image/png"/>
  <Override PartName="/ppt/media/image15.jpeg" ContentType="image/jpeg"/>
  <Override PartName="/ppt/media/image1.jpeg" ContentType="image/jpeg"/>
  <Override PartName="/ppt/media/image5.png" ContentType="image/png"/>
  <Override PartName="/ppt/media/image10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4.jpeg" ContentType="image/jpeg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4D47C-1526-4360-9E98-050C20D70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1634A-95C2-4C85-996A-702B1BF1D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43F31-29F6-4D73-B208-8AA02D9354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2A967-9489-48D5-AF5B-3B089DEDB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4C0E8-0F42-45CC-954E-4028A7CBF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36CA1-0F36-4FED-95CC-AC2875BCC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8A2FC-C0A1-42FD-B329-F4CAD648A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92533-B266-4393-9195-0BFA1C868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EAB50-5D4C-4718-B33B-72B3DFBE1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48E31-6619-4607-9F82-CE930E56A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3F424-551F-43A3-B441-C3529F67A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90E9B-41DC-44D3-8BFE-8223F8F0D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2E1E4-8E02-4789-87C4-A2BB750DF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09064-BF04-4D08-8CDF-925A98E1D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8EB55-A696-4706-930D-B1D6B077C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6E5C0-AAB8-4D56-A1F7-A1E77254CC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82EF9-FC14-4A6E-955E-484AB9FE7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1D245F-3C6A-4E4F-A839-98D4629BE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0FFE14-0E42-4457-AFA4-303E78089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2A79EA-D86F-47B9-A112-8903BA3B5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5F8B29-6B8C-431E-BC5D-F1B993FD0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2D0552-3256-4334-9C14-2D961F8FD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9613D-DF0F-4AA1-9BF0-B302BA49F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A9C795-14CA-4612-8C7F-1E92F8445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B96901-0EEB-4E2B-936E-42A7079F3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8980BB-468C-4E9E-B761-88E566B86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8EA779-B7ED-4F0F-BF4D-A235EE0C9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335508-8C0E-4D34-BE5F-4F5260EDE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A1609A-CDA2-4222-8EC8-775CC8D5D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B4755C-813F-46B9-97B4-5D0C8639D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FD249F-E691-4EB8-94F1-AF0F7E87E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96A22D-7052-4B8A-9479-01FC068B4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B200F2-A108-441C-9504-24B204509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8C7BF-B7CF-46C8-BA60-BF355EA5C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57F1DD-4C59-49A8-881E-DA08DD11A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24D27E-0442-425E-BEFE-E00613265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0C9E9E-2F33-478B-A5FF-D29B5FCA1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3C3DB5-E107-4B0B-9AE1-E3C32835E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7D89A5-3C2C-4ED4-BD24-E88358C8D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F30E50-22C9-43EF-86F5-D212F13D8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51EA49-64B1-45C3-B8AF-D7D030416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50BA01-F95F-4F2C-9A9A-4BAE9B6B6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90CF3C-9195-41B7-B475-65107984D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B1A7C-0301-4DFD-A1FC-E8AA7BD85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C2093-F3D2-4BF8-A2C2-A5C5F6427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6124D-AF4A-4C5D-86D2-EC2F251D1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D49A5-1249-4592-A48C-0C7D1CAE1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0F7F9-14A2-49E5-93B8-80F88D65A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D303F-11E0-4159-8786-DC794A22F4FA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95808-B3A6-4794-B87E-9EA68975F048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34F08-1F7C-45C7-822B-758389EC6667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1CF86-81E3-41C5-9D68-59105D0561ED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1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308800" cy="190188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7" name="Picture 4" descr="ketchup2.jpg"/>
          <p:cNvPicPr/>
          <p:nvPr/>
        </p:nvPicPr>
        <p:blipFill>
          <a:blip r:embed="rId2"/>
          <a:stretch/>
        </p:blipFill>
        <p:spPr>
          <a:xfrm>
            <a:off x="533520" y="1523880"/>
            <a:ext cx="20001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Title 1" descr=""/>
          <p:cNvPicPr/>
          <p:nvPr/>
        </p:nvPicPr>
        <p:blipFill>
          <a:blip r:embed="rId1"/>
          <a:stretch/>
        </p:blipFill>
        <p:spPr>
          <a:xfrm>
            <a:off x="73080" y="701640"/>
            <a:ext cx="8699400" cy="115092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2" descr="river.jpg"/>
          <p:cNvPicPr/>
          <p:nvPr/>
        </p:nvPicPr>
        <p:blipFill>
          <a:blip r:embed="rId2"/>
          <a:stretch/>
        </p:blipFill>
        <p:spPr>
          <a:xfrm>
            <a:off x="3672000" y="2162160"/>
            <a:ext cx="31176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Title 1" descr=""/>
          <p:cNvPicPr/>
          <p:nvPr/>
        </p:nvPicPr>
        <p:blipFill>
          <a:blip r:embed="rId1"/>
          <a:stretch/>
        </p:blipFill>
        <p:spPr>
          <a:xfrm>
            <a:off x="73080" y="701640"/>
            <a:ext cx="8699400" cy="11509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2" descr="omm6.jpg"/>
          <p:cNvPicPr/>
          <p:nvPr/>
        </p:nvPicPr>
        <p:blipFill>
          <a:blip r:embed="rId2"/>
          <a:stretch/>
        </p:blipFill>
        <p:spPr>
          <a:xfrm>
            <a:off x="3352680" y="2514600"/>
            <a:ext cx="4754520" cy="35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2212920" cy="15825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17b"/>
                </a:solidFill>
                <a:latin typeface="Calibri"/>
              </a:rPr>
              <a:t>Character traits of Lennie-he is slow and needs George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6248520" cy="4114800"/>
          </a:xfrm>
          <a:prstGeom prst="rect">
            <a:avLst/>
          </a:prstGeom>
          <a:noFill/>
          <a:ln w="0">
            <a:noFill/>
          </a:ln>
        </p:spPr>
        <p:txBody>
          <a:bodyPr lIns="64080" rIns="457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Actions-He acts like a child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Dialogue-”I tried not to forget. Honest to God I did, George.”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Physical description-very tall and large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Idiosyncrasies-likes ketchup and petting dead animal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Objects/Possessions-dead mouse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Reactions-threatens to leave George and go live in the mountain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Thoughts-dead mice, ketchup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Background Information-traveling to his new job, is homeles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Title 1" descr=""/>
          <p:cNvPicPr/>
          <p:nvPr/>
        </p:nvPicPr>
        <p:blipFill>
          <a:blip r:embed="rId1"/>
          <a:stretch/>
        </p:blipFill>
        <p:spPr>
          <a:xfrm>
            <a:off x="73080" y="701640"/>
            <a:ext cx="8699400" cy="1150920"/>
          </a:xfrm>
          <a:prstGeom prst="rect">
            <a:avLst/>
          </a:prstGeom>
          <a:ln w="0">
            <a:noFill/>
          </a:ln>
        </p:spPr>
      </p:pic>
      <p:sp>
        <p:nvSpPr>
          <p:cNvPr id="205" name="TextBox 2"/>
          <p:cNvSpPr/>
          <p:nvPr/>
        </p:nvSpPr>
        <p:spPr>
          <a:xfrm>
            <a:off x="838080" y="2209680"/>
            <a:ext cx="685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 wants to live on a farm with a lot of bunn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Placeholder 6" descr="bunnies.bmp"/>
          <p:cNvPicPr/>
          <p:nvPr/>
        </p:nvPicPr>
        <p:blipFill>
          <a:blip r:embed="rId2"/>
          <a:srcRect l="16263" t="0" r="16263" b="0"/>
          <a:stretch/>
        </p:blipFill>
        <p:spPr>
          <a:xfrm rot="420000">
            <a:off x="4509720" y="3324240"/>
            <a:ext cx="3459240" cy="29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2365200" cy="9903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17b"/>
                </a:solidFill>
                <a:latin typeface="Calibri"/>
              </a:rPr>
              <a:t>Character traits of George-father like to Lennie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09480" y="1447560"/>
            <a:ext cx="6019920" cy="3560760"/>
          </a:xfrm>
          <a:prstGeom prst="rect">
            <a:avLst/>
          </a:prstGeom>
          <a:noFill/>
          <a:ln w="0">
            <a:noFill/>
          </a:ln>
        </p:spPr>
        <p:txBody>
          <a:bodyPr lIns="64080" rIns="457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nstantia"/>
              </a:rPr>
              <a:t>Actions-he tells Lennie what to do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nstantia"/>
              </a:rPr>
              <a:t>Dialogue-”Lennie, for God’sakes don’t drink so much.”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nstantia"/>
              </a:rPr>
              <a:t>Physical description-small and quick, strong features and restless eyes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nstantia"/>
              </a:rPr>
              <a:t>Idiosyncrasies- wants to buy a farm for Lennie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nstantia"/>
              </a:rPr>
              <a:t>Objects/Possessions-bindle stick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nstantia"/>
              </a:rPr>
              <a:t>Reactions-he ususally gets mad and lose patience with Lennie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nstantia"/>
              </a:rPr>
              <a:t>Thoughts-thinks about him being by himself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nstantia"/>
              </a:rPr>
              <a:t>Background Information-traveling and is homeless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9" name="Picture Placeholder 4" descr="father.jpg"/>
          <p:cNvPicPr/>
          <p:nvPr/>
        </p:nvPicPr>
        <p:blipFill>
          <a:blip r:embed="rId1"/>
          <a:srcRect l="0" t="8010" r="0" b="8010"/>
          <a:stretch/>
        </p:blipFill>
        <p:spPr>
          <a:xfrm rot="420000">
            <a:off x="5968800" y="3589200"/>
            <a:ext cx="1989000" cy="1694160"/>
          </a:xfrm>
          <a:prstGeom prst="rect">
            <a:avLst/>
          </a:prstGeom>
          <a:ln cap="rnd" w="2880">
            <a:solidFill>
              <a:srgbClr val="c0c0c0"/>
            </a:solidFill>
            <a:round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George's Dream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He wants to buy a farm for Lennie and be his own boss and own his own farm to be his own bos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onflict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an vs Ma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an vs Natur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4" name="Picture 3" descr="man vs man.jpg"/>
          <p:cNvPicPr/>
          <p:nvPr/>
        </p:nvPicPr>
        <p:blipFill>
          <a:blip r:embed="rId1"/>
          <a:stretch/>
        </p:blipFill>
        <p:spPr>
          <a:xfrm>
            <a:off x="3789360" y="3124080"/>
            <a:ext cx="3992400" cy="25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Title 1" descr=""/>
          <p:cNvPicPr/>
          <p:nvPr/>
        </p:nvPicPr>
        <p:blipFill>
          <a:blip r:embed="rId1"/>
          <a:stretch/>
        </p:blipFill>
        <p:spPr>
          <a:xfrm>
            <a:off x="262080" y="1500120"/>
            <a:ext cx="8662680" cy="155412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2" descr="omm20.jpg"/>
          <p:cNvPicPr/>
          <p:nvPr/>
        </p:nvPicPr>
        <p:blipFill>
          <a:blip r:embed="rId2"/>
          <a:stretch/>
        </p:blipFill>
        <p:spPr>
          <a:xfrm>
            <a:off x="3429000" y="3124080"/>
            <a:ext cx="26226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5T01:35:55Z</dcterms:created>
  <dc:creator>Teacher</dc:creator>
  <dc:description/>
  <dc:language>en-US</dc:language>
  <cp:lastModifiedBy>Teacher</cp:lastModifiedBy>
  <dcterms:modified xsi:type="dcterms:W3CDTF">2013-04-26T17:40:00Z</dcterms:modified>
  <cp:revision>4</cp:revision>
  <dc:subject/>
  <dc:title>Chapter 1: Ketchup</dc:title>
</cp:coreProperties>
</file>